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F7DD-2672-4CA3-A75B-77371C995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CF0E-CEA1-41E9-98F2-43FBE3533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CA7B-370C-49A8-8A84-8A23BDB1E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2994-F016-4E65-9547-DCD52684B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422B-354B-480C-99F3-D3D104BD6C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AA04-24C8-407A-B3A9-F58338F6C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57C4-E9AB-4C89-A0E2-049D977B6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AC87-EB30-405F-88FF-5877B4A0A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7B0E-774D-446C-9820-05722945F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100D-DE28-40AE-9FBD-19566A28C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F573-0137-497F-BCD4-A7F47BAF0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E310-3C52-41B8-846E-1EC5B2048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a6a6a6"/>
              </a:gs>
              <a:gs pos="100000">
                <a:srgbClr val="ebeb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AutoShape 3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52" y="0"/>
                  </a:moveTo>
                  <a:lnTo>
                    <a:pt x="20642" y="607"/>
                  </a:lnTo>
                  <a:lnTo>
                    <a:pt x="19716" y="1282"/>
                  </a:lnTo>
                  <a:lnTo>
                    <a:pt x="18774" y="2025"/>
                  </a:lnTo>
                  <a:lnTo>
                    <a:pt x="17800" y="2767"/>
                  </a:lnTo>
                  <a:lnTo>
                    <a:pt x="16811" y="3645"/>
                  </a:lnTo>
                  <a:lnTo>
                    <a:pt x="15789" y="4522"/>
                  </a:lnTo>
                  <a:lnTo>
                    <a:pt x="14751" y="5535"/>
                  </a:lnTo>
                  <a:lnTo>
                    <a:pt x="13682" y="6547"/>
                  </a:lnTo>
                  <a:lnTo>
                    <a:pt x="11750" y="8505"/>
                  </a:lnTo>
                  <a:lnTo>
                    <a:pt x="9866" y="10260"/>
                  </a:lnTo>
                  <a:lnTo>
                    <a:pt x="8062" y="11880"/>
                  </a:lnTo>
                  <a:lnTo>
                    <a:pt x="6322" y="13433"/>
                  </a:lnTo>
                  <a:lnTo>
                    <a:pt x="4662" y="14782"/>
                  </a:lnTo>
                  <a:lnTo>
                    <a:pt x="3049" y="15998"/>
                  </a:lnTo>
                  <a:lnTo>
                    <a:pt x="1501" y="17145"/>
                  </a:lnTo>
                  <a:lnTo>
                    <a:pt x="0" y="18158"/>
                  </a:lnTo>
                  <a:lnTo>
                    <a:pt x="1038" y="18765"/>
                  </a:lnTo>
                  <a:lnTo>
                    <a:pt x="2027" y="19305"/>
                  </a:lnTo>
                  <a:lnTo>
                    <a:pt x="2985" y="19778"/>
                  </a:lnTo>
                  <a:lnTo>
                    <a:pt x="3927" y="20182"/>
                  </a:lnTo>
                  <a:lnTo>
                    <a:pt x="4837" y="20588"/>
                  </a:lnTo>
                  <a:lnTo>
                    <a:pt x="5715" y="20858"/>
                  </a:lnTo>
                  <a:lnTo>
                    <a:pt x="6561" y="21128"/>
                  </a:lnTo>
                  <a:lnTo>
                    <a:pt x="7392" y="21330"/>
                  </a:lnTo>
                  <a:lnTo>
                    <a:pt x="8206" y="21465"/>
                  </a:lnTo>
                  <a:lnTo>
                    <a:pt x="8988" y="21533"/>
                  </a:lnTo>
                  <a:lnTo>
                    <a:pt x="9738" y="21600"/>
                  </a:lnTo>
                  <a:lnTo>
                    <a:pt x="10473" y="21600"/>
                  </a:lnTo>
                  <a:lnTo>
                    <a:pt x="11191" y="21533"/>
                  </a:lnTo>
                  <a:lnTo>
                    <a:pt x="11894" y="21465"/>
                  </a:lnTo>
                  <a:lnTo>
                    <a:pt x="12564" y="21330"/>
                  </a:lnTo>
                  <a:lnTo>
                    <a:pt x="13219" y="21128"/>
                  </a:lnTo>
                  <a:lnTo>
                    <a:pt x="13841" y="20925"/>
                  </a:lnTo>
                  <a:lnTo>
                    <a:pt x="14464" y="20655"/>
                  </a:lnTo>
                  <a:lnTo>
                    <a:pt x="15645" y="19980"/>
                  </a:lnTo>
                  <a:lnTo>
                    <a:pt x="16763" y="19170"/>
                  </a:lnTo>
                  <a:lnTo>
                    <a:pt x="17816" y="18225"/>
                  </a:lnTo>
                  <a:lnTo>
                    <a:pt x="18327" y="17685"/>
                  </a:lnTo>
                  <a:lnTo>
                    <a:pt x="18822" y="17145"/>
                  </a:lnTo>
                  <a:lnTo>
                    <a:pt x="19780" y="15930"/>
                  </a:lnTo>
                  <a:lnTo>
                    <a:pt x="20690" y="14580"/>
                  </a:lnTo>
                  <a:lnTo>
                    <a:pt x="21568" y="13162"/>
                  </a:lnTo>
                  <a:lnTo>
                    <a:pt x="21600" y="13095"/>
                  </a:lnTo>
                  <a:lnTo>
                    <a:pt x="21600" y="0"/>
                  </a:lnTo>
                  <a:lnTo>
                    <a:pt x="21552" y="0"/>
                  </a:lnTo>
                  <a:close/>
                </a:path>
              </a:pathLst>
            </a:custGeom>
            <a:solidFill>
              <a:srgbClr val="f8f8f8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0239"/>
                  </a:moveTo>
                  <a:lnTo>
                    <a:pt x="21128" y="19843"/>
                  </a:lnTo>
                  <a:lnTo>
                    <a:pt x="20639" y="19446"/>
                  </a:lnTo>
                  <a:lnTo>
                    <a:pt x="19621" y="18482"/>
                  </a:lnTo>
                  <a:lnTo>
                    <a:pt x="18544" y="17291"/>
                  </a:lnTo>
                  <a:lnTo>
                    <a:pt x="17409" y="15987"/>
                  </a:lnTo>
                  <a:lnTo>
                    <a:pt x="16208" y="14400"/>
                  </a:lnTo>
                  <a:lnTo>
                    <a:pt x="14941" y="12643"/>
                  </a:lnTo>
                  <a:lnTo>
                    <a:pt x="13608" y="10602"/>
                  </a:lnTo>
                  <a:lnTo>
                    <a:pt x="12200" y="8391"/>
                  </a:lnTo>
                  <a:lnTo>
                    <a:pt x="11645" y="7540"/>
                  </a:lnTo>
                  <a:lnTo>
                    <a:pt x="11106" y="6690"/>
                  </a:lnTo>
                  <a:lnTo>
                    <a:pt x="10063" y="5216"/>
                  </a:lnTo>
                  <a:lnTo>
                    <a:pt x="9558" y="4592"/>
                  </a:lnTo>
                  <a:lnTo>
                    <a:pt x="9069" y="3969"/>
                  </a:lnTo>
                  <a:lnTo>
                    <a:pt x="8589" y="3402"/>
                  </a:lnTo>
                  <a:lnTo>
                    <a:pt x="8117" y="2891"/>
                  </a:lnTo>
                  <a:lnTo>
                    <a:pt x="7661" y="2438"/>
                  </a:lnTo>
                  <a:lnTo>
                    <a:pt x="7206" y="2041"/>
                  </a:lnTo>
                  <a:lnTo>
                    <a:pt x="6344" y="1304"/>
                  </a:lnTo>
                  <a:lnTo>
                    <a:pt x="5524" y="794"/>
                  </a:lnTo>
                  <a:lnTo>
                    <a:pt x="4754" y="397"/>
                  </a:lnTo>
                  <a:lnTo>
                    <a:pt x="4017" y="113"/>
                  </a:lnTo>
                  <a:lnTo>
                    <a:pt x="3321" y="0"/>
                  </a:lnTo>
                  <a:lnTo>
                    <a:pt x="2667" y="0"/>
                  </a:lnTo>
                  <a:lnTo>
                    <a:pt x="2054" y="113"/>
                  </a:lnTo>
                  <a:lnTo>
                    <a:pt x="1483" y="283"/>
                  </a:lnTo>
                  <a:lnTo>
                    <a:pt x="952" y="567"/>
                  </a:lnTo>
                  <a:lnTo>
                    <a:pt x="456" y="907"/>
                  </a:lnTo>
                  <a:lnTo>
                    <a:pt x="0" y="1361"/>
                  </a:lnTo>
                  <a:lnTo>
                    <a:pt x="638" y="1871"/>
                  </a:lnTo>
                  <a:lnTo>
                    <a:pt x="1300" y="2438"/>
                  </a:lnTo>
                  <a:lnTo>
                    <a:pt x="1988" y="3175"/>
                  </a:lnTo>
                  <a:lnTo>
                    <a:pt x="2700" y="3969"/>
                  </a:lnTo>
                  <a:lnTo>
                    <a:pt x="3437" y="4932"/>
                  </a:lnTo>
                  <a:lnTo>
                    <a:pt x="4199" y="5953"/>
                  </a:lnTo>
                  <a:lnTo>
                    <a:pt x="4994" y="7087"/>
                  </a:lnTo>
                  <a:lnTo>
                    <a:pt x="5806" y="8391"/>
                  </a:lnTo>
                  <a:lnTo>
                    <a:pt x="7272" y="10715"/>
                  </a:lnTo>
                  <a:lnTo>
                    <a:pt x="8663" y="12756"/>
                  </a:lnTo>
                  <a:lnTo>
                    <a:pt x="9972" y="14627"/>
                  </a:lnTo>
                  <a:lnTo>
                    <a:pt x="10610" y="15420"/>
                  </a:lnTo>
                  <a:lnTo>
                    <a:pt x="11214" y="16214"/>
                  </a:lnTo>
                  <a:lnTo>
                    <a:pt x="11810" y="16951"/>
                  </a:lnTo>
                  <a:lnTo>
                    <a:pt x="12390" y="17575"/>
                  </a:lnTo>
                  <a:lnTo>
                    <a:pt x="12953" y="18198"/>
                  </a:lnTo>
                  <a:lnTo>
                    <a:pt x="13500" y="18765"/>
                  </a:lnTo>
                  <a:lnTo>
                    <a:pt x="14030" y="19219"/>
                  </a:lnTo>
                  <a:lnTo>
                    <a:pt x="14544" y="19672"/>
                  </a:lnTo>
                  <a:lnTo>
                    <a:pt x="15040" y="20069"/>
                  </a:lnTo>
                  <a:lnTo>
                    <a:pt x="15529" y="20466"/>
                  </a:lnTo>
                  <a:lnTo>
                    <a:pt x="16001" y="20750"/>
                  </a:lnTo>
                  <a:lnTo>
                    <a:pt x="16457" y="20976"/>
                  </a:lnTo>
                  <a:lnTo>
                    <a:pt x="16896" y="21203"/>
                  </a:lnTo>
                  <a:lnTo>
                    <a:pt x="17326" y="21373"/>
                  </a:lnTo>
                  <a:lnTo>
                    <a:pt x="17749" y="21487"/>
                  </a:lnTo>
                  <a:lnTo>
                    <a:pt x="18155" y="21600"/>
                  </a:lnTo>
                  <a:lnTo>
                    <a:pt x="18925" y="21600"/>
                  </a:lnTo>
                  <a:lnTo>
                    <a:pt x="19298" y="21543"/>
                  </a:lnTo>
                  <a:lnTo>
                    <a:pt x="19654" y="21487"/>
                  </a:lnTo>
                  <a:lnTo>
                    <a:pt x="20002" y="21373"/>
                  </a:lnTo>
                  <a:lnTo>
                    <a:pt x="20341" y="21203"/>
                  </a:lnTo>
                  <a:lnTo>
                    <a:pt x="20672" y="20976"/>
                  </a:lnTo>
                  <a:lnTo>
                    <a:pt x="21302" y="20523"/>
                  </a:lnTo>
                  <a:lnTo>
                    <a:pt x="21600" y="20239"/>
                  </a:lnTo>
                  <a:close/>
                </a:path>
              </a:pathLst>
            </a:custGeom>
            <a:solidFill>
              <a:srgbClr val="f8f8f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79"/>
                  </a:moveTo>
                  <a:lnTo>
                    <a:pt x="76" y="2054"/>
                  </a:lnTo>
                  <a:lnTo>
                    <a:pt x="302" y="1743"/>
                  </a:lnTo>
                  <a:lnTo>
                    <a:pt x="689" y="1307"/>
                  </a:lnTo>
                  <a:lnTo>
                    <a:pt x="941" y="1058"/>
                  </a:lnTo>
                  <a:lnTo>
                    <a:pt x="1235" y="809"/>
                  </a:lnTo>
                  <a:lnTo>
                    <a:pt x="1562" y="622"/>
                  </a:lnTo>
                  <a:lnTo>
                    <a:pt x="1940" y="436"/>
                  </a:lnTo>
                  <a:lnTo>
                    <a:pt x="2351" y="249"/>
                  </a:lnTo>
                  <a:lnTo>
                    <a:pt x="2813" y="124"/>
                  </a:lnTo>
                  <a:lnTo>
                    <a:pt x="3317" y="62"/>
                  </a:lnTo>
                  <a:lnTo>
                    <a:pt x="3863" y="0"/>
                  </a:lnTo>
                  <a:lnTo>
                    <a:pt x="4451" y="62"/>
                  </a:lnTo>
                  <a:lnTo>
                    <a:pt x="5081" y="187"/>
                  </a:lnTo>
                  <a:lnTo>
                    <a:pt x="5761" y="436"/>
                  </a:lnTo>
                  <a:lnTo>
                    <a:pt x="6483" y="747"/>
                  </a:lnTo>
                  <a:lnTo>
                    <a:pt x="7248" y="1245"/>
                  </a:lnTo>
                  <a:lnTo>
                    <a:pt x="8062" y="1805"/>
                  </a:lnTo>
                  <a:lnTo>
                    <a:pt x="8927" y="2490"/>
                  </a:lnTo>
                  <a:lnTo>
                    <a:pt x="9834" y="3299"/>
                  </a:lnTo>
                  <a:lnTo>
                    <a:pt x="10792" y="4295"/>
                  </a:lnTo>
                  <a:lnTo>
                    <a:pt x="11791" y="5416"/>
                  </a:lnTo>
                  <a:lnTo>
                    <a:pt x="12841" y="6723"/>
                  </a:lnTo>
                  <a:lnTo>
                    <a:pt x="13941" y="8279"/>
                  </a:lnTo>
                  <a:lnTo>
                    <a:pt x="15091" y="9960"/>
                  </a:lnTo>
                  <a:lnTo>
                    <a:pt x="16292" y="11827"/>
                  </a:lnTo>
                  <a:lnTo>
                    <a:pt x="17544" y="13944"/>
                  </a:lnTo>
                  <a:lnTo>
                    <a:pt x="18845" y="16247"/>
                  </a:lnTo>
                  <a:lnTo>
                    <a:pt x="20198" y="18799"/>
                  </a:lnTo>
                  <a:lnTo>
                    <a:pt x="21600" y="2160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625" y="20712"/>
                  </a:lnTo>
                  <a:lnTo>
                    <a:pt x="2332" y="18419"/>
                  </a:lnTo>
                  <a:lnTo>
                    <a:pt x="3512" y="16866"/>
                  </a:lnTo>
                  <a:lnTo>
                    <a:pt x="4872" y="15164"/>
                  </a:lnTo>
                  <a:lnTo>
                    <a:pt x="6386" y="13315"/>
                  </a:lnTo>
                  <a:lnTo>
                    <a:pt x="8010" y="11318"/>
                  </a:lnTo>
                  <a:lnTo>
                    <a:pt x="9731" y="9395"/>
                  </a:lnTo>
                  <a:lnTo>
                    <a:pt x="11494" y="7471"/>
                  </a:lnTo>
                  <a:lnTo>
                    <a:pt x="13299" y="5696"/>
                  </a:lnTo>
                  <a:lnTo>
                    <a:pt x="15089" y="3995"/>
                  </a:lnTo>
                  <a:lnTo>
                    <a:pt x="15978" y="3255"/>
                  </a:lnTo>
                  <a:lnTo>
                    <a:pt x="16839" y="2515"/>
                  </a:lnTo>
                  <a:lnTo>
                    <a:pt x="17699" y="1923"/>
                  </a:lnTo>
                  <a:lnTo>
                    <a:pt x="18532" y="1332"/>
                  </a:lnTo>
                  <a:lnTo>
                    <a:pt x="19351" y="888"/>
                  </a:lnTo>
                  <a:lnTo>
                    <a:pt x="20129" y="518"/>
                  </a:lnTo>
                  <a:lnTo>
                    <a:pt x="20878" y="222"/>
                  </a:lnTo>
                  <a:lnTo>
                    <a:pt x="21600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89" y="9278"/>
                  </a:moveTo>
                  <a:lnTo>
                    <a:pt x="21389" y="9821"/>
                  </a:lnTo>
                  <a:lnTo>
                    <a:pt x="21189" y="10329"/>
                  </a:lnTo>
                  <a:lnTo>
                    <a:pt x="20978" y="10800"/>
                  </a:lnTo>
                  <a:lnTo>
                    <a:pt x="20762" y="11235"/>
                  </a:lnTo>
                  <a:lnTo>
                    <a:pt x="20541" y="11670"/>
                  </a:lnTo>
                  <a:lnTo>
                    <a:pt x="20309" y="12068"/>
                  </a:lnTo>
                  <a:lnTo>
                    <a:pt x="20071" y="12395"/>
                  </a:lnTo>
                  <a:lnTo>
                    <a:pt x="19824" y="12721"/>
                  </a:lnTo>
                  <a:lnTo>
                    <a:pt x="19565" y="13011"/>
                  </a:lnTo>
                  <a:lnTo>
                    <a:pt x="19297" y="13228"/>
                  </a:lnTo>
                  <a:lnTo>
                    <a:pt x="19017" y="13446"/>
                  </a:lnTo>
                  <a:lnTo>
                    <a:pt x="18727" y="13591"/>
                  </a:lnTo>
                  <a:lnTo>
                    <a:pt x="18427" y="13736"/>
                  </a:lnTo>
                  <a:lnTo>
                    <a:pt x="18111" y="13808"/>
                  </a:lnTo>
                  <a:lnTo>
                    <a:pt x="17784" y="13808"/>
                  </a:lnTo>
                  <a:lnTo>
                    <a:pt x="17441" y="13772"/>
                  </a:lnTo>
                  <a:lnTo>
                    <a:pt x="17083" y="13699"/>
                  </a:lnTo>
                  <a:lnTo>
                    <a:pt x="16714" y="13591"/>
                  </a:lnTo>
                  <a:lnTo>
                    <a:pt x="16329" y="13409"/>
                  </a:lnTo>
                  <a:lnTo>
                    <a:pt x="15923" y="13156"/>
                  </a:lnTo>
                  <a:lnTo>
                    <a:pt x="15502" y="12866"/>
                  </a:lnTo>
                  <a:lnTo>
                    <a:pt x="15064" y="12503"/>
                  </a:lnTo>
                  <a:lnTo>
                    <a:pt x="14611" y="12105"/>
                  </a:lnTo>
                  <a:lnTo>
                    <a:pt x="14136" y="11634"/>
                  </a:lnTo>
                  <a:lnTo>
                    <a:pt x="13641" y="11090"/>
                  </a:lnTo>
                  <a:lnTo>
                    <a:pt x="13130" y="10474"/>
                  </a:lnTo>
                  <a:lnTo>
                    <a:pt x="12592" y="9785"/>
                  </a:lnTo>
                  <a:lnTo>
                    <a:pt x="12039" y="9060"/>
                  </a:lnTo>
                  <a:lnTo>
                    <a:pt x="11459" y="8227"/>
                  </a:lnTo>
                  <a:lnTo>
                    <a:pt x="10863" y="7357"/>
                  </a:lnTo>
                  <a:lnTo>
                    <a:pt x="10241" y="6415"/>
                  </a:lnTo>
                  <a:lnTo>
                    <a:pt x="9593" y="5364"/>
                  </a:lnTo>
                  <a:lnTo>
                    <a:pt x="8950" y="4349"/>
                  </a:lnTo>
                  <a:lnTo>
                    <a:pt x="8328" y="3479"/>
                  </a:lnTo>
                  <a:lnTo>
                    <a:pt x="7732" y="2682"/>
                  </a:lnTo>
                  <a:lnTo>
                    <a:pt x="7163" y="2030"/>
                  </a:lnTo>
                  <a:lnTo>
                    <a:pt x="6620" y="1486"/>
                  </a:lnTo>
                  <a:lnTo>
                    <a:pt x="6098" y="1015"/>
                  </a:lnTo>
                  <a:lnTo>
                    <a:pt x="5603" y="652"/>
                  </a:lnTo>
                  <a:lnTo>
                    <a:pt x="5134" y="362"/>
                  </a:lnTo>
                  <a:lnTo>
                    <a:pt x="4681" y="181"/>
                  </a:lnTo>
                  <a:lnTo>
                    <a:pt x="4259" y="36"/>
                  </a:lnTo>
                  <a:lnTo>
                    <a:pt x="3853" y="0"/>
                  </a:lnTo>
                  <a:lnTo>
                    <a:pt x="3473" y="0"/>
                  </a:lnTo>
                  <a:lnTo>
                    <a:pt x="3115" y="72"/>
                  </a:lnTo>
                  <a:lnTo>
                    <a:pt x="2778" y="181"/>
                  </a:lnTo>
                  <a:lnTo>
                    <a:pt x="2461" y="362"/>
                  </a:lnTo>
                  <a:lnTo>
                    <a:pt x="2166" y="544"/>
                  </a:lnTo>
                  <a:lnTo>
                    <a:pt x="1887" y="797"/>
                  </a:lnTo>
                  <a:lnTo>
                    <a:pt x="1634" y="1051"/>
                  </a:lnTo>
                  <a:lnTo>
                    <a:pt x="1397" y="1341"/>
                  </a:lnTo>
                  <a:lnTo>
                    <a:pt x="1186" y="1667"/>
                  </a:lnTo>
                  <a:lnTo>
                    <a:pt x="986" y="1957"/>
                  </a:lnTo>
                  <a:lnTo>
                    <a:pt x="812" y="2283"/>
                  </a:lnTo>
                  <a:lnTo>
                    <a:pt x="654" y="2609"/>
                  </a:lnTo>
                  <a:lnTo>
                    <a:pt x="511" y="2899"/>
                  </a:lnTo>
                  <a:lnTo>
                    <a:pt x="390" y="3189"/>
                  </a:lnTo>
                  <a:lnTo>
                    <a:pt x="127" y="3914"/>
                  </a:lnTo>
                  <a:lnTo>
                    <a:pt x="0" y="4349"/>
                  </a:lnTo>
                  <a:lnTo>
                    <a:pt x="0" y="21600"/>
                  </a:lnTo>
                  <a:lnTo>
                    <a:pt x="21589" y="21600"/>
                  </a:lnTo>
                  <a:lnTo>
                    <a:pt x="21600" y="21491"/>
                  </a:lnTo>
                  <a:lnTo>
                    <a:pt x="21600" y="9242"/>
                  </a:lnTo>
                  <a:lnTo>
                    <a:pt x="21589" y="9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ddddd"/>
              </a:buClr>
              <a:buFont typeface="Symbol" charset="2"/>
              <a:buChar char="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00120" indent="-297000">
              <a:spcBef>
                <a:spcPts val="499"/>
              </a:spcBef>
              <a:buClr>
                <a:srgbClr val="dddddd"/>
              </a:buClr>
              <a:buFont typeface="Symbol" charset="2"/>
              <a:buChar char="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2" marL="900000" indent="-272880">
              <a:spcBef>
                <a:spcPts val="499"/>
              </a:spcBef>
              <a:buClr>
                <a:srgbClr val="dddddd"/>
              </a:buClr>
              <a:buFont typeface="Symbol" charset="2"/>
              <a:buChar char="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3" marL="1219320" indent="-304920">
              <a:spcBef>
                <a:spcPts val="499"/>
              </a:spcBef>
              <a:buClr>
                <a:srgbClr val="dddddd"/>
              </a:buClr>
              <a:buFont typeface="Symbol" charset="2"/>
              <a:buChar char="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4" marL="1576440" indent="-343080">
              <a:spcBef>
                <a:spcPts val="499"/>
              </a:spcBef>
              <a:buClr>
                <a:srgbClr val="dddddd"/>
              </a:buClr>
              <a:buFont typeface="Symbol" charset="2"/>
              <a:buChar char="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5" marL="157644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6" marL="157644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4462560" y="6303960"/>
            <a:ext cx="217440" cy="25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B6C2-779E-4FB5-B86C-4B802FE3E528}" type="slidenum">
              <a:rPr b="0" lang="en-US" sz="10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8000" y="1988640"/>
            <a:ext cx="3671640" cy="33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ndara"/>
              </a:rPr>
              <a:t>Piano di Sviluppo Locale LEAD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ndara"/>
              </a:rPr>
              <a:t>PSR 2014-2020</a:t>
            </a:r>
            <a:br>
              <a:rPr sz="29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a61c06"/>
                </a:solidFill>
                <a:latin typeface="Candara"/>
              </a:rPr>
              <a:t>filiere agroalimentari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2920" y="764640"/>
            <a:ext cx="7853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ndara"/>
              </a:rPr>
              <a:t>Gruppo di Azione Local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ndara"/>
              </a:rPr>
              <a:t>VALLI DI LANZO, CERONDA E CASTERNON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8" name="Picture 3" descr="D:\Lavori\PSL_2014-2020\Lavoro\Presentazioni\logoGAL_trasparente.png"/>
          <p:cNvPicPr/>
          <p:nvPr/>
        </p:nvPicPr>
        <p:blipFill>
          <a:blip r:embed="rId1"/>
          <a:stretch/>
        </p:blipFill>
        <p:spPr>
          <a:xfrm>
            <a:off x="179280" y="620640"/>
            <a:ext cx="2225880" cy="12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oto1"/>
          <p:cNvPicPr/>
          <p:nvPr/>
        </p:nvPicPr>
        <p:blipFill>
          <a:blip r:embed="rId2"/>
          <a:stretch/>
        </p:blipFill>
        <p:spPr>
          <a:xfrm>
            <a:off x="395280" y="2154240"/>
            <a:ext cx="4681440" cy="264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piepag"/>
          <p:cNvPicPr/>
          <p:nvPr/>
        </p:nvPicPr>
        <p:blipFill>
          <a:blip r:embed="rId3"/>
          <a:srcRect l="26297" t="0" r="24659" b="53400"/>
          <a:stretch/>
        </p:blipFill>
        <p:spPr>
          <a:xfrm>
            <a:off x="395280" y="5952960"/>
            <a:ext cx="4681440" cy="716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51640" y="5516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Viù, 11 novembre 2017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3573360"/>
            <a:ext cx="6842160" cy="309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 u="sng">
                <a:solidFill>
                  <a:srgbClr val="000090"/>
                </a:solidFill>
                <a:uFillTx/>
                <a:latin typeface="Candara"/>
              </a:rPr>
              <a:t>PROGETTO DI FILIERA (PIF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000090"/>
                </a:solidFill>
                <a:latin typeface="Candara"/>
              </a:rPr>
              <a:t>presentato da una pluralità di soggetti appartenenti al medesimo settore che definisce una serie di accordi e di  investimenti condivisi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 u="sng">
                <a:solidFill>
                  <a:srgbClr val="000090"/>
                </a:solidFill>
                <a:uFillTx/>
                <a:latin typeface="Candara"/>
              </a:rPr>
              <a:t>PROGETTO INTEGRATO DI RETE TERRITORIALE (PIRT)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000090"/>
                </a:solidFill>
                <a:latin typeface="Candara"/>
              </a:rPr>
              <a:t>presentato da una pluralità di operatori economici operanti in settori diversi (imprese, enti locali, associazioni …) che cooperano con la finalità di valorizzare il territorio e potenziarne la competitività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ndara"/>
              </a:rPr>
              <a:t>Ambito tematico n. 3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Candara"/>
              </a:rPr>
              <a:t>SVILUPPO E INNOVAZIONE DELLE FILERE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Candara"/>
              </a:rPr>
              <a:t>E DEI SISTEMI PRODUTTIVI LOCALI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4" name="Group 3" descr=""/>
          <p:cNvPicPr/>
          <p:nvPr/>
        </p:nvPicPr>
        <p:blipFill>
          <a:blip r:embed="rId1"/>
          <a:stretch/>
        </p:blipFill>
        <p:spPr>
          <a:xfrm>
            <a:off x="3286080" y="2762280"/>
            <a:ext cx="1925640" cy="9558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7"/>
          <p:cNvGrpSpPr/>
          <p:nvPr/>
        </p:nvGrpSpPr>
        <p:grpSpPr>
          <a:xfrm>
            <a:off x="6732720" y="4292640"/>
            <a:ext cx="2182680" cy="2232000"/>
            <a:chOff x="6732720" y="4292640"/>
            <a:chExt cx="2182680" cy="2232000"/>
          </a:xfrm>
        </p:grpSpPr>
        <p:sp>
          <p:nvSpPr>
            <p:cNvPr id="56" name="Oval 8"/>
            <p:cNvSpPr/>
            <p:nvPr/>
          </p:nvSpPr>
          <p:spPr>
            <a:xfrm>
              <a:off x="7169040" y="4292640"/>
              <a:ext cx="436320" cy="49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7" name="Oval 9"/>
            <p:cNvSpPr/>
            <p:nvPr/>
          </p:nvSpPr>
          <p:spPr>
            <a:xfrm>
              <a:off x="7751880" y="5284800"/>
              <a:ext cx="434880" cy="49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Oval 10"/>
            <p:cNvSpPr/>
            <p:nvPr/>
          </p:nvSpPr>
          <p:spPr>
            <a:xfrm>
              <a:off x="7169040" y="6029280"/>
              <a:ext cx="436320" cy="49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Oval 11"/>
            <p:cNvSpPr/>
            <p:nvPr/>
          </p:nvSpPr>
          <p:spPr>
            <a:xfrm>
              <a:off x="8479080" y="5780160"/>
              <a:ext cx="436320" cy="4968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Oval 12"/>
            <p:cNvSpPr/>
            <p:nvPr/>
          </p:nvSpPr>
          <p:spPr>
            <a:xfrm>
              <a:off x="6732720" y="5284800"/>
              <a:ext cx="436320" cy="49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1" name="Oval 13"/>
            <p:cNvSpPr/>
            <p:nvPr/>
          </p:nvSpPr>
          <p:spPr>
            <a:xfrm>
              <a:off x="8332920" y="4540320"/>
              <a:ext cx="436320" cy="4968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7388280" y="4540320"/>
              <a:ext cx="598320" cy="9763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8515440" y="4851360"/>
              <a:ext cx="217440" cy="12081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6950160" y="5564160"/>
              <a:ext cx="455400" cy="6811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 flipV="1">
              <a:off x="6932520" y="4478400"/>
              <a:ext cx="473040" cy="102384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H="1" flipV="1">
              <a:off x="7022880" y="5470560"/>
              <a:ext cx="1019160" cy="93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7" name="AutoShape 19"/>
            <p:cNvSpPr/>
            <p:nvPr/>
          </p:nvSpPr>
          <p:spPr>
            <a:xfrm>
              <a:off x="7388280" y="4572000"/>
              <a:ext cx="1163520" cy="173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929"/>
                  </a:moveTo>
                  <a:lnTo>
                    <a:pt x="675" y="0"/>
                  </a:lnTo>
                  <a:lnTo>
                    <a:pt x="0" y="2160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8" name="Line 20"/>
            <p:cNvSpPr/>
            <p:nvPr/>
          </p:nvSpPr>
          <p:spPr>
            <a:xfrm flipV="1">
              <a:off x="7952040" y="4788000"/>
              <a:ext cx="655560" cy="8683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9" name="Line 21"/>
            <p:cNvSpPr/>
            <p:nvPr/>
          </p:nvSpPr>
          <p:spPr>
            <a:xfrm flipH="1">
              <a:off x="7388280" y="6121440"/>
              <a:ext cx="1309680" cy="12384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0" name="Line 22"/>
            <p:cNvSpPr/>
            <p:nvPr/>
          </p:nvSpPr>
          <p:spPr>
            <a:xfrm>
              <a:off x="7440480" y="4510080"/>
              <a:ext cx="1274760" cy="14572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 flipH="1">
              <a:off x="7461360" y="5532480"/>
              <a:ext cx="473040" cy="6825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 flipH="1">
              <a:off x="6967440" y="4633920"/>
              <a:ext cx="1511280" cy="8064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3" name="Rectangle 25"/>
          <p:cNvSpPr/>
          <p:nvPr/>
        </p:nvSpPr>
        <p:spPr>
          <a:xfrm>
            <a:off x="250920" y="1557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990000"/>
                </a:solidFill>
                <a:latin typeface="Candara"/>
              </a:rPr>
              <a:t>L’ambito tematico affronta il tema dello sviluppo  delle economie locali  attraverso forme di aggregazione degli operatori  economici in progetti di filiera (PIF) e in progetti di rete territoriale (PIRT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tangolo 4"/>
          <p:cNvSpPr/>
          <p:nvPr/>
        </p:nvSpPr>
        <p:spPr>
          <a:xfrm>
            <a:off x="457200" y="1700280"/>
            <a:ext cx="8291520" cy="496872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0"/>
                </a:solidFill>
                <a:latin typeface="Arial"/>
                <a:ea typeface="Arial"/>
              </a:rPr>
              <a:t>CARATTERISTICHE DEL PROGETTO DI FILIERA / RET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0000"/>
              </a:lnSpc>
              <a:buClr>
                <a:srgbClr val="00009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0"/>
                </a:solidFill>
                <a:latin typeface="Candara"/>
                <a:ea typeface="Arial"/>
              </a:rPr>
              <a:t>Presentato da </a:t>
            </a:r>
            <a:r>
              <a:rPr b="1" lang="it-IT" sz="1800" spc="-1" strike="noStrike">
                <a:solidFill>
                  <a:srgbClr val="95bb0d"/>
                </a:solidFill>
                <a:latin typeface="Candara"/>
                <a:ea typeface="Arial"/>
              </a:rPr>
              <a:t>soggetto capofil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0000"/>
              </a:lnSpc>
              <a:buClr>
                <a:srgbClr val="00009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0"/>
                </a:solidFill>
                <a:latin typeface="Candara"/>
                <a:ea typeface="Arial"/>
              </a:rPr>
              <a:t>Presentato in forma associata da un minimo </a:t>
            </a:r>
            <a:r>
              <a:rPr b="1" lang="it-IT" sz="2000" spc="-1" strike="noStrike">
                <a:solidFill>
                  <a:srgbClr val="95bb0d"/>
                </a:solidFill>
                <a:latin typeface="Candara"/>
                <a:ea typeface="Arial"/>
              </a:rPr>
              <a:t>tre soggetti di cui almeno due beneficiar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0000"/>
              </a:lnSpc>
              <a:buClr>
                <a:srgbClr val="00009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0"/>
                </a:solidFill>
                <a:latin typeface="Candara"/>
                <a:ea typeface="Arial"/>
              </a:rPr>
              <a:t>I </a:t>
            </a:r>
            <a:r>
              <a:rPr b="1" lang="it-IT" sz="2000" spc="-1" strike="noStrike">
                <a:solidFill>
                  <a:srgbClr val="a50021"/>
                </a:solidFill>
                <a:latin typeface="Candara"/>
              </a:rPr>
              <a:t>partecipanti indiretti </a:t>
            </a:r>
            <a:r>
              <a:rPr b="1" lang="it-IT" sz="1800" spc="-1" strike="noStrike">
                <a:solidFill>
                  <a:srgbClr val="000090"/>
                </a:solidFill>
                <a:latin typeface="Candara"/>
                <a:ea typeface="Arial"/>
              </a:rPr>
              <a:t>(che non usufruiscono di finanziamento), se condividono il progetto, devono firmare l’accordo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0000"/>
              </a:lnSpc>
              <a:buClr>
                <a:srgbClr val="00009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0"/>
                </a:solidFill>
                <a:latin typeface="Candara"/>
                <a:ea typeface="Arial"/>
              </a:rPr>
              <a:t>Accordo di </a:t>
            </a:r>
            <a:r>
              <a:rPr b="1" lang="it-IT" sz="2000" spc="-1" strike="noStrike">
                <a:solidFill>
                  <a:srgbClr val="a50021"/>
                </a:solidFill>
                <a:latin typeface="Candara"/>
              </a:rPr>
              <a:t>durata minima tre anni </a:t>
            </a:r>
            <a:r>
              <a:rPr b="1" lang="it-IT" sz="1800" spc="-1" strike="noStrike">
                <a:solidFill>
                  <a:srgbClr val="000090"/>
                </a:solidFill>
                <a:latin typeface="Candara"/>
                <a:ea typeface="Arial"/>
              </a:rPr>
              <a:t>stipulato da tutti i partecipanti (beneficiari e non) che vincola alla realizzazione degli interventi, contiene obblighi e impegni per il raggiungimento degli obiettivi prefissati dall’accordo stesso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20000"/>
              </a:lnSpc>
              <a:buClr>
                <a:srgbClr val="00009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0"/>
                </a:solidFill>
                <a:latin typeface="Candara"/>
                <a:ea typeface="Arial"/>
              </a:rPr>
              <a:t>Beneficiari del contributo sono </a:t>
            </a:r>
            <a:r>
              <a:rPr b="1" lang="it-IT" sz="2000" spc="-1" strike="noStrike">
                <a:solidFill>
                  <a:srgbClr val="a50021"/>
                </a:solidFill>
                <a:latin typeface="Candara"/>
              </a:rPr>
              <a:t>imprese agroalimentari (NO AGRICOLE), commerciali, certificatori di qualità…. </a:t>
            </a:r>
            <a:r>
              <a:rPr b="1" lang="it-IT" sz="1800" spc="-1" strike="noStrike">
                <a:solidFill>
                  <a:srgbClr val="000090"/>
                </a:solidFill>
                <a:latin typeface="Candara"/>
                <a:ea typeface="Arial"/>
              </a:rPr>
              <a:t>che sostengono l’onere finanziario come previsto dalla </a:t>
            </a:r>
            <a:r>
              <a:rPr b="1" lang="it-IT" sz="2000" spc="-1" strike="noStrike">
                <a:solidFill>
                  <a:srgbClr val="95bb0d"/>
                </a:solidFill>
                <a:latin typeface="Candara"/>
                <a:ea typeface="Arial"/>
              </a:rPr>
              <a:t>misura di riferimento del  PSL  che utilizzano per aderire al progetto di filiera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68360" y="33336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ndara"/>
              </a:rPr>
              <a:t>Ambito tematico n. 3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Candara"/>
              </a:rPr>
              <a:t>SVILUPPO E INNOVAZIONE DELLE FILERE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Candara"/>
              </a:rPr>
              <a:t>E DEI SISTEMI PRODUTTIVI LOCALI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76" name="Group 7"/>
          <p:cNvGrpSpPr/>
          <p:nvPr/>
        </p:nvGrpSpPr>
        <p:grpSpPr>
          <a:xfrm>
            <a:off x="395280" y="333360"/>
            <a:ext cx="1152360" cy="1224000"/>
            <a:chOff x="395280" y="333360"/>
            <a:chExt cx="1152360" cy="1224000"/>
          </a:xfrm>
        </p:grpSpPr>
        <p:sp>
          <p:nvSpPr>
            <p:cNvPr id="77" name="Oval 8"/>
            <p:cNvSpPr/>
            <p:nvPr/>
          </p:nvSpPr>
          <p:spPr>
            <a:xfrm>
              <a:off x="625320" y="33336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8" name="Oval 9"/>
            <p:cNvSpPr/>
            <p:nvPr/>
          </p:nvSpPr>
          <p:spPr>
            <a:xfrm>
              <a:off x="933480" y="87804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79" name="Oval 10"/>
            <p:cNvSpPr/>
            <p:nvPr/>
          </p:nvSpPr>
          <p:spPr>
            <a:xfrm>
              <a:off x="625320" y="128592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0" name="Oval 11"/>
            <p:cNvSpPr/>
            <p:nvPr/>
          </p:nvSpPr>
          <p:spPr>
            <a:xfrm>
              <a:off x="1317600" y="114948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1" name="Oval 12"/>
            <p:cNvSpPr/>
            <p:nvPr/>
          </p:nvSpPr>
          <p:spPr>
            <a:xfrm>
              <a:off x="395280" y="87804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1239840" y="46980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741240" y="469800"/>
              <a:ext cx="315720" cy="53496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4" name="Line 15"/>
            <p:cNvSpPr/>
            <p:nvPr/>
          </p:nvSpPr>
          <p:spPr>
            <a:xfrm>
              <a:off x="1336680" y="639720"/>
              <a:ext cx="114120" cy="66204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5" name="Line 16"/>
            <p:cNvSpPr/>
            <p:nvPr/>
          </p:nvSpPr>
          <p:spPr>
            <a:xfrm>
              <a:off x="509400" y="1030320"/>
              <a:ext cx="241200" cy="37296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V="1">
              <a:off x="501480" y="434520"/>
              <a:ext cx="249120" cy="56196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 flipH="1" flipV="1">
              <a:off x="548640" y="979200"/>
              <a:ext cx="538200" cy="5076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8" name="AutoShape 19"/>
            <p:cNvSpPr/>
            <p:nvPr/>
          </p:nvSpPr>
          <p:spPr>
            <a:xfrm>
              <a:off x="741240" y="487080"/>
              <a:ext cx="6141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929"/>
                  </a:moveTo>
                  <a:lnTo>
                    <a:pt x="675" y="0"/>
                  </a:lnTo>
                  <a:lnTo>
                    <a:pt x="0" y="21600"/>
                  </a:lnTo>
                </a:path>
              </a:pathLst>
            </a:custGeom>
            <a:noFill/>
            <a:ln w="19080">
              <a:solidFill>
                <a:srgbClr val="95bb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89" name="Line 20"/>
            <p:cNvSpPr/>
            <p:nvPr/>
          </p:nvSpPr>
          <p:spPr>
            <a:xfrm flipV="1">
              <a:off x="1039680" y="604440"/>
              <a:ext cx="345960" cy="47628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 flipH="1">
              <a:off x="741240" y="1336680"/>
              <a:ext cx="691920" cy="6660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768240" y="452160"/>
              <a:ext cx="673200" cy="80028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H="1">
              <a:off x="779400" y="1012680"/>
              <a:ext cx="250560" cy="37476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H="1">
              <a:off x="519120" y="520560"/>
              <a:ext cx="798480" cy="441360"/>
            </a:xfrm>
            <a:prstGeom prst="line">
              <a:avLst/>
            </a:prstGeom>
            <a:ln w="19080">
              <a:solidFill>
                <a:srgbClr val="95b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7667640" y="404640"/>
            <a:ext cx="1152360" cy="1224000"/>
            <a:chOff x="7667640" y="404640"/>
            <a:chExt cx="1152360" cy="1224000"/>
          </a:xfrm>
        </p:grpSpPr>
        <p:sp>
          <p:nvSpPr>
            <p:cNvPr id="95" name="Oval 8"/>
            <p:cNvSpPr/>
            <p:nvPr/>
          </p:nvSpPr>
          <p:spPr>
            <a:xfrm>
              <a:off x="7897680" y="40464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6" name="Oval 9"/>
            <p:cNvSpPr/>
            <p:nvPr/>
          </p:nvSpPr>
          <p:spPr>
            <a:xfrm>
              <a:off x="8205840" y="94932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7897680" y="135720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8" name="Oval 11"/>
            <p:cNvSpPr/>
            <p:nvPr/>
          </p:nvSpPr>
          <p:spPr>
            <a:xfrm>
              <a:off x="8589960" y="122076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7667640" y="94932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8512200" y="541080"/>
              <a:ext cx="230040" cy="2714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>
              <a:off x="8013600" y="541080"/>
              <a:ext cx="315720" cy="53496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2" name="Line 15"/>
            <p:cNvSpPr/>
            <p:nvPr/>
          </p:nvSpPr>
          <p:spPr>
            <a:xfrm>
              <a:off x="8609040" y="711000"/>
              <a:ext cx="114120" cy="66204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3" name="Line 16"/>
            <p:cNvSpPr/>
            <p:nvPr/>
          </p:nvSpPr>
          <p:spPr>
            <a:xfrm>
              <a:off x="7781760" y="1101600"/>
              <a:ext cx="241200" cy="37296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 flipV="1">
              <a:off x="7773840" y="505800"/>
              <a:ext cx="249120" cy="56196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5" name="Line 18"/>
            <p:cNvSpPr/>
            <p:nvPr/>
          </p:nvSpPr>
          <p:spPr>
            <a:xfrm flipH="1" flipV="1">
              <a:off x="7821000" y="1050480"/>
              <a:ext cx="538200" cy="5076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6" name="AutoShape 19"/>
            <p:cNvSpPr/>
            <p:nvPr/>
          </p:nvSpPr>
          <p:spPr>
            <a:xfrm>
              <a:off x="8013600" y="558360"/>
              <a:ext cx="6141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929"/>
                  </a:moveTo>
                  <a:lnTo>
                    <a:pt x="675" y="0"/>
                  </a:lnTo>
                  <a:lnTo>
                    <a:pt x="0" y="21600"/>
                  </a:lnTo>
                </a:path>
              </a:pathLst>
            </a:custGeom>
            <a:noFill/>
            <a:ln w="19080">
              <a:solidFill>
                <a:srgbClr val="0000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7" name="Line 20"/>
            <p:cNvSpPr/>
            <p:nvPr/>
          </p:nvSpPr>
          <p:spPr>
            <a:xfrm flipV="1">
              <a:off x="8312040" y="675720"/>
              <a:ext cx="345960" cy="47628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8" name="Line 21"/>
            <p:cNvSpPr/>
            <p:nvPr/>
          </p:nvSpPr>
          <p:spPr>
            <a:xfrm flipH="1">
              <a:off x="8013600" y="1407960"/>
              <a:ext cx="691920" cy="6660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9" name="Line 22"/>
            <p:cNvSpPr/>
            <p:nvPr/>
          </p:nvSpPr>
          <p:spPr>
            <a:xfrm>
              <a:off x="8040600" y="523440"/>
              <a:ext cx="673200" cy="80028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0" name="Line 23"/>
            <p:cNvSpPr/>
            <p:nvPr/>
          </p:nvSpPr>
          <p:spPr>
            <a:xfrm flipH="1">
              <a:off x="8051760" y="1083960"/>
              <a:ext cx="250560" cy="37476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1" name="Line 24"/>
            <p:cNvSpPr/>
            <p:nvPr/>
          </p:nvSpPr>
          <p:spPr>
            <a:xfrm flipH="1">
              <a:off x="7791480" y="591840"/>
              <a:ext cx="798480" cy="441360"/>
            </a:xfrm>
            <a:prstGeom prst="line">
              <a:avLst/>
            </a:prstGeom>
            <a:ln w="19080">
              <a:solidFill>
                <a:srgbClr val="000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915160" cy="1252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ndara"/>
              </a:rPr>
              <a:t>6.4.2</a:t>
            </a:r>
            <a:r>
              <a:rPr b="1" lang="en-US" sz="2000" spc="-1" strike="noStrike">
                <a:solidFill>
                  <a:srgbClr val="990099"/>
                </a:solidFill>
                <a:latin typeface="Candara"/>
              </a:rPr>
              <a:t> –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 (fuori PSR, reg. 1305/2013 art 19 – par. 1 a ii) </a:t>
            </a:r>
            <a:br>
              <a:rPr sz="2000"/>
            </a:br>
            <a:r>
              <a:rPr b="1" lang="en-US" sz="2200" spc="-1" strike="noStrike">
                <a:solidFill>
                  <a:srgbClr val="990099"/>
                </a:solidFill>
                <a:latin typeface="Candara"/>
              </a:rPr>
              <a:t>Sostegno agli investimenti per la creazione e per lo sviluppo  di attività extra- agricole da parte di piccole e microimprese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50920" y="2349360"/>
            <a:ext cx="853416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99"/>
                </a:solidFill>
                <a:latin typeface="Candara"/>
              </a:rPr>
              <a:t>Costi ammissibili</a:t>
            </a:r>
            <a:r>
              <a:rPr b="1" lang="it-IT" sz="1800" spc="-1" strike="noStrike">
                <a:solidFill>
                  <a:srgbClr val="000000"/>
                </a:solidFill>
                <a:latin typeface="Candara"/>
              </a:rPr>
              <a:t> (art. 45 del reg. 1305/2013)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ndara"/>
              </a:rPr>
              <a:t>acquisto di </a:t>
            </a:r>
            <a:r>
              <a:rPr b="1" lang="it-IT" sz="1800" spc="-1" strike="noStrike">
                <a:solidFill>
                  <a:srgbClr val="990099"/>
                </a:solidFill>
                <a:latin typeface="Candara"/>
              </a:rPr>
              <a:t>impianti, macchinari, strumenti, attrezzature</a:t>
            </a:r>
            <a:r>
              <a:rPr b="1" lang="it-IT" sz="1800" spc="-1" strike="noStrike">
                <a:solidFill>
                  <a:srgbClr val="000000"/>
                </a:solidFill>
                <a:latin typeface="Candara"/>
              </a:rPr>
              <a:t> (incluso hardware), </a:t>
            </a:r>
            <a:r>
              <a:rPr b="1" lang="it-IT" sz="1800" spc="-1" strike="noStrike">
                <a:solidFill>
                  <a:srgbClr val="990099"/>
                </a:solidFill>
                <a:latin typeface="Candara"/>
              </a:rPr>
              <a:t>arredi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ndara"/>
              </a:rPr>
              <a:t>acquisto e realizzazione di </a:t>
            </a:r>
            <a:r>
              <a:rPr b="1" lang="it-IT" sz="1800" spc="-1" strike="noStrike">
                <a:solidFill>
                  <a:srgbClr val="990099"/>
                </a:solidFill>
                <a:latin typeface="Candar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ndara"/>
              </a:rPr>
              <a:t>interventi materiali di </a:t>
            </a:r>
            <a:r>
              <a:rPr b="1" lang="it-IT" sz="1800" spc="-1" strike="noStrike">
                <a:solidFill>
                  <a:srgbClr val="990099"/>
                </a:solidFill>
                <a:latin typeface="Candara"/>
              </a:rPr>
              <a:t>recupero, restauro e riqualificazione </a:t>
            </a:r>
            <a:r>
              <a:rPr b="1" lang="it-IT" sz="1800" spc="-1" strike="noStrike">
                <a:solidFill>
                  <a:srgbClr val="000000"/>
                </a:solidFill>
                <a:latin typeface="Candara"/>
              </a:rPr>
              <a:t>di edifici, manufatti e loro pertinenze riconducibili alle tipologie di beni previsti dai manuali sul recupero dell’architettura e del paesaggio rurale (</a:t>
            </a:r>
            <a:r>
              <a:rPr b="1" lang="it-IT" sz="1800" spc="-1" strike="noStrike">
                <a:solidFill>
                  <a:srgbClr val="990099"/>
                </a:solidFill>
                <a:latin typeface="Candara"/>
              </a:rPr>
              <a:t>Misura 7.6.2</a:t>
            </a:r>
            <a:r>
              <a:rPr b="1" lang="it-IT" sz="1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99"/>
                </a:solidFill>
                <a:latin typeface="Candara"/>
              </a:rPr>
              <a:t>adeguamenti strutturali </a:t>
            </a:r>
            <a:r>
              <a:rPr b="1" lang="it-IT" sz="1800" spc="-1" strike="noStrike">
                <a:solidFill>
                  <a:srgbClr val="000000"/>
                </a:solidFill>
                <a:latin typeface="Candara"/>
              </a:rPr>
              <a:t>di modesta entità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0099"/>
                </a:solidFill>
                <a:latin typeface="Candara"/>
              </a:rPr>
              <a:t>consulenze specialistiche e spese generali e tecniche</a:t>
            </a:r>
            <a:r>
              <a:rPr b="1" lang="it-IT" sz="1800" spc="-1" strike="noStrike">
                <a:solidFill>
                  <a:srgbClr val="000000"/>
                </a:solidFill>
                <a:latin typeface="Candara"/>
              </a:rPr>
              <a:t> (acquisto di brevetti e licenze e know-how o conoscenze tecniche non brevettate, spese di progettazione, direzione lavori e simili) per un ammontare non superiore al 12% dell’importo degli investimenti materiali a cui tali spese sono riferit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499080" y="473040"/>
            <a:ext cx="2063880" cy="138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2"/>
          <a:stretch/>
        </p:blipFill>
        <p:spPr>
          <a:xfrm>
            <a:off x="6516720" y="352440"/>
            <a:ext cx="202896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915160" cy="1252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ndara"/>
              </a:rPr>
              <a:t>6.4.2</a:t>
            </a:r>
            <a:r>
              <a:rPr b="1" lang="en-US" sz="2000" spc="-1" strike="noStrike">
                <a:solidFill>
                  <a:srgbClr val="990099"/>
                </a:solidFill>
                <a:latin typeface="Candara"/>
              </a:rPr>
              <a:t> –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 (fuori PSR, reg. 1305/2013 art 19 – par. 1 a ii) </a:t>
            </a:r>
            <a:br>
              <a:rPr sz="2000"/>
            </a:br>
            <a:r>
              <a:rPr b="1" lang="en-US" sz="2200" spc="-1" strike="noStrike">
                <a:solidFill>
                  <a:srgbClr val="990099"/>
                </a:solidFill>
                <a:latin typeface="Candara"/>
              </a:rPr>
              <a:t>Sostegno agli investimenti per la creazione e per lo sviluppo  di attività extra- agricole da parte di piccole e microimprese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499080" y="473040"/>
            <a:ext cx="2063880" cy="1382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468360" y="2708280"/>
            <a:ext cx="8218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99"/>
                </a:solidFill>
                <a:latin typeface="Candara"/>
              </a:rPr>
              <a:t>Tipo di sostegno:</a:t>
            </a:r>
            <a:r>
              <a:rPr b="1" lang="it-IT" sz="2000" spc="-1" strike="noStrike">
                <a:solidFill>
                  <a:srgbClr val="000000"/>
                </a:solidFill>
                <a:latin typeface="Candara"/>
              </a:rPr>
              <a:t> Contributo in conto capitale max 40% costo dell’investimento elevato a 50% per investimenti congiunt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99"/>
                </a:solidFill>
                <a:latin typeface="Candara"/>
              </a:rPr>
              <a:t>Risorse GAL da destinare agli investimenti</a:t>
            </a:r>
            <a:r>
              <a:rPr b="1" lang="it-IT" sz="20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Candara"/>
              </a:rPr>
              <a:t>100.000</a:t>
            </a:r>
            <a:r>
              <a:rPr b="1" lang="it-IT" sz="2000" spc="-1" strike="noStrike">
                <a:solidFill>
                  <a:srgbClr val="000000"/>
                </a:solidFill>
                <a:latin typeface="Candara"/>
              </a:rPr>
              <a:t> euro (significa 250.000 di investimenti delle imprese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516720" y="352440"/>
            <a:ext cx="202896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5904000" cy="1252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ndara"/>
              </a:rPr>
              <a:t>6.4.2</a:t>
            </a:r>
            <a:r>
              <a:rPr b="1" lang="en-US" sz="2000" spc="-1" strike="noStrike">
                <a:solidFill>
                  <a:srgbClr val="990099"/>
                </a:solidFill>
                <a:latin typeface="Candara"/>
              </a:rPr>
              <a:t> –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 (fuori PSR, reg. 1305/2013 art 19 – par. 1 a ii) </a:t>
            </a:r>
            <a:br>
              <a:rPr sz="2000"/>
            </a:br>
            <a:r>
              <a:rPr b="1" lang="en-US" sz="2200" spc="-1" strike="noStrike">
                <a:solidFill>
                  <a:srgbClr val="990099"/>
                </a:solidFill>
                <a:latin typeface="Candara"/>
              </a:rPr>
              <a:t>Sostegno agli investimenti per la creazione e per lo sviluppo  di attività extra- agricole da parte di piccole e microimprese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324000" y="1844640"/>
            <a:ext cx="853416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99"/>
                </a:solidFill>
                <a:latin typeface="Candara"/>
              </a:rPr>
              <a:t>Condizioni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ndara"/>
              </a:rPr>
              <a:t>L’operazione sarà attivata dal GAL coerentemente con la strategia locale e le specificità dell’area, inserita in </a:t>
            </a:r>
            <a:r>
              <a:rPr b="1" lang="it-IT" sz="2000" spc="-1" strike="noStrike">
                <a:solidFill>
                  <a:srgbClr val="000000"/>
                </a:solidFill>
                <a:latin typeface="Candara"/>
              </a:rPr>
              <a:t>progetti collettivi quali filiere o reti territoriali</a:t>
            </a:r>
            <a:r>
              <a:rPr b="0" lang="it-IT" sz="2000" spc="-1" strike="noStrike">
                <a:solidFill>
                  <a:srgbClr val="000000"/>
                </a:solidFill>
                <a:latin typeface="Candara"/>
              </a:rPr>
              <a:t> (PIF o PIRT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ndara"/>
              </a:rPr>
              <a:t>Gli investimenti richiesti in domanda dovranno avere come output </a:t>
            </a:r>
            <a:r>
              <a:rPr b="1" lang="it-IT" sz="2000" spc="-1" strike="noStrike">
                <a:solidFill>
                  <a:srgbClr val="000000"/>
                </a:solidFill>
                <a:latin typeface="Candara"/>
              </a:rPr>
              <a:t>prodotti non compresi nell’allegato I del TFUE </a:t>
            </a:r>
            <a:r>
              <a:rPr b="0" lang="it-IT" sz="2000" spc="-1" strike="noStrike">
                <a:solidFill>
                  <a:srgbClr val="000000"/>
                </a:solidFill>
                <a:latin typeface="Candara"/>
              </a:rPr>
              <a:t>(Trattato sul Funzionamento dell'Unione europea)</a:t>
            </a:r>
            <a:r>
              <a:rPr b="1" lang="it-IT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ndara"/>
              </a:rPr>
              <a:t>Gli </a:t>
            </a:r>
            <a:r>
              <a:rPr b="1" lang="it-IT" sz="2000" spc="-1" strike="noStrike">
                <a:solidFill>
                  <a:srgbClr val="000000"/>
                </a:solidFill>
                <a:latin typeface="Candara"/>
              </a:rPr>
              <a:t>interventi di recupero non dovranno avere carattere di predominanza</a:t>
            </a:r>
            <a:r>
              <a:rPr b="0" lang="it-IT" sz="2000" spc="-1" strike="noStrike">
                <a:solidFill>
                  <a:srgbClr val="000000"/>
                </a:solidFill>
                <a:latin typeface="Candara"/>
              </a:rPr>
              <a:t> rispetto agli altri investiment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2" name="Immagine 1" descr=""/>
          <p:cNvPicPr/>
          <p:nvPr/>
        </p:nvPicPr>
        <p:blipFill>
          <a:blip r:embed="rId1"/>
          <a:stretch/>
        </p:blipFill>
        <p:spPr>
          <a:xfrm>
            <a:off x="0" y="5065560"/>
            <a:ext cx="3059280" cy="179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6516720" y="352440"/>
            <a:ext cx="202896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551640" cy="1252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29a00"/>
                </a:solidFill>
                <a:latin typeface="Candara"/>
              </a:rPr>
              <a:t>6.2.1</a:t>
            </a:r>
            <a:r>
              <a:rPr b="1" lang="it-IT" sz="2400" spc="-1" strike="noStrike">
                <a:solidFill>
                  <a:srgbClr val="ffffff"/>
                </a:solidFill>
                <a:latin typeface="Candara"/>
              </a:rPr>
              <a:t> (fuori PSR, art.19, par 1. a.ii, reg. 1305/2014)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it-IT" sz="2400" spc="-1" strike="noStrike">
                <a:solidFill>
                  <a:srgbClr val="729a00"/>
                </a:solidFill>
                <a:latin typeface="Candara"/>
              </a:rPr>
              <a:t>Aiuti all’avviamento di attività imprenditoriali per attività extra-agricole nelle zone rurali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50920" y="1989000"/>
            <a:ext cx="868680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9a00"/>
                </a:solidFill>
                <a:latin typeface="Candara"/>
              </a:rPr>
              <a:t>Condizioni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Sostegno subordinato alla realizzazione di un piano aziendale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ad3d"/>
                </a:solidFill>
                <a:latin typeface="Candara"/>
              </a:rPr>
              <a:t>Piano aziendale: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Progetto di sviluppo della nuova impresa con indicazione degli investimenti materiali ed immateriali e delle attività di crescita personale ed imprenditoriale del/dei nuovo/i imprenditore/i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29a00"/>
                </a:solidFill>
                <a:latin typeface="Candara"/>
              </a:rPr>
              <a:t>Le imprese neo-costituite potranno finanziare gli investimenti accedendo alla misura 6.4.2 </a:t>
            </a:r>
            <a:r>
              <a:rPr b="0" i="1" lang="en-US" sz="2000" spc="-1" strike="noStrike">
                <a:solidFill>
                  <a:srgbClr val="729a00"/>
                </a:solidFill>
                <a:latin typeface="Candara"/>
              </a:rPr>
              <a:t>Sostegno agli investimenti per la creazione e per lo sviluppo  di attività extra- agricole da parte di piccole e microimprese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26" name="Picture 4" descr="C:\Users\ila\Desktop\item_1_1302787123.jpg"/>
          <p:cNvPicPr/>
          <p:nvPr/>
        </p:nvPicPr>
        <p:blipFill>
          <a:blip r:embed="rId1"/>
          <a:srcRect l="49971" t="0" r="0" b="0"/>
          <a:stretch/>
        </p:blipFill>
        <p:spPr>
          <a:xfrm>
            <a:off x="7086600" y="304920"/>
            <a:ext cx="1760400" cy="13906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27" name="Rectangle 4"/>
          <p:cNvSpPr/>
          <p:nvPr/>
        </p:nvSpPr>
        <p:spPr>
          <a:xfrm>
            <a:off x="468360" y="5300640"/>
            <a:ext cx="828036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9a00"/>
                </a:solidFill>
                <a:latin typeface="Candara"/>
              </a:rPr>
              <a:t>Tipo di sostegno forfettario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Premio definito dal GAL nel limite massimo di 25.000 euro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rogato in 2 rate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La nuova impresa deve rimanere attiva per almeno 3 anni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8" name="Rettangolo 9"/>
          <p:cNvSpPr/>
          <p:nvPr/>
        </p:nvSpPr>
        <p:spPr>
          <a:xfrm>
            <a:off x="324000" y="5300640"/>
            <a:ext cx="8619840" cy="1171440"/>
          </a:xfrm>
          <a:prstGeom prst="rect">
            <a:avLst/>
          </a:prstGeom>
          <a:noFill/>
          <a:ln w="41400">
            <a:solidFill>
              <a:srgbClr val="95bb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551640" cy="1252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29a00"/>
                </a:solidFill>
                <a:latin typeface="Candara"/>
              </a:rPr>
              <a:t>6.2.1</a:t>
            </a:r>
            <a:r>
              <a:rPr b="1" lang="it-IT" sz="2400" spc="-1" strike="noStrike">
                <a:solidFill>
                  <a:srgbClr val="ffffff"/>
                </a:solidFill>
                <a:latin typeface="Candara"/>
              </a:rPr>
              <a:t> (fuori PSR, art.19, par 1. a.ii, reg. 1305/2014)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it-IT" sz="2400" spc="-1" strike="noStrike">
                <a:solidFill>
                  <a:srgbClr val="729a00"/>
                </a:solidFill>
                <a:latin typeface="Candara"/>
              </a:rPr>
              <a:t>Aiuti all’avviamento di attività imprenditoriali per attività extra-agricole nelle zone rurali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250920" y="155736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9a00"/>
                </a:solidFill>
                <a:latin typeface="Candara"/>
              </a:rPr>
              <a:t>Risultati ottenuti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31" name="Picture 4" descr="C:\Users\ila\Desktop\item_1_1302787123.jpg"/>
          <p:cNvPicPr/>
          <p:nvPr/>
        </p:nvPicPr>
        <p:blipFill>
          <a:blip r:embed="rId1"/>
          <a:srcRect l="49971" t="0" r="0" b="0"/>
          <a:stretch/>
        </p:blipFill>
        <p:spPr>
          <a:xfrm>
            <a:off x="7086600" y="304920"/>
            <a:ext cx="1760400" cy="13906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graphicFrame>
        <p:nvGraphicFramePr>
          <p:cNvPr id="132" name=""/>
          <p:cNvGraphicFramePr/>
          <p:nvPr/>
        </p:nvGraphicFramePr>
        <p:xfrm>
          <a:off x="395280" y="2276640"/>
          <a:ext cx="8424720" cy="4248000"/>
        </p:xfrm>
        <a:graphic>
          <a:graphicData uri="http://schemas.openxmlformats.org/drawingml/2006/table">
            <a:tbl>
              <a:tblPr/>
              <a:tblGrid>
                <a:gridCol w="1197000"/>
                <a:gridCol w="1504800"/>
                <a:gridCol w="824040"/>
                <a:gridCol w="812880"/>
                <a:gridCol w="625320"/>
                <a:gridCol w="835200"/>
                <a:gridCol w="966600"/>
                <a:gridCol w="912960"/>
                <a:gridCol w="745920"/>
              </a:tblGrid>
              <a:tr h="398880">
                <a:tc gridSpan="9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azione 2007-2013 - Contributo a fondo perduto 40% su totale spesa ammissi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o di BP validati dal MIP (riferiti all'area G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o di imprese che hanno presentato domanda al GAL (misura 312 azione 2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 = A+B+C+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) Settore turistico-ricet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) Artigianato tipi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) Com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) trasformazione agroaliment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e Investimenti delle imprese per avviare nuova attività (eur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e contributo a fondo perduto erogato dal GAL (eur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i totale di posti lavoro creat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54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1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8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azione 2014-2020 (aggiornato al 22 ottobre 2018) - Premio di insediamento: 25.000 e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36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o di BP validati dal MIP (riferiti all'area G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o di imprese che hanno presentato domanda al GAL (misura 621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 = A+B+C+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) Settore turistico-ricet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) Artigianato tipi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) Com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) trasformazione agroaliment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e Premio di insediamento erogato dal GAL (eur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i totale di posti lavoro creati (stim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l-Dir</cp:lastModifiedBy>
  <cp:lastPrinted>2016-02-17T15:14:11Z</cp:lastPrinted>
  <dcterms:modified xsi:type="dcterms:W3CDTF">2018-10-24T16:05:34Z</dcterms:modified>
  <cp:revision>132</cp:revision>
  <dc:subject/>
  <dc:title>Presentazione di PowerPoint</dc:title>
</cp:coreProperties>
</file>